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36E6-FAD6-4E44-B483-2E475C574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3886-D616-448D-94B7-5743C8AE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7351-450E-4F5E-B592-614A8FD2F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4FD6-9597-4E89-8B15-A160FA160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86DD-72A3-4B53-A788-2F648DAC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E292-4F94-4B93-820C-4FE13660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63D5-FE0A-41FA-8EED-2947C8BB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5ECB-6BC6-4CEC-B666-1CEDB779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9459-C9B8-4B80-9D80-059227B5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AF89-3890-4FD3-AC74-9AFEB177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6145-AEE7-469F-AC87-22DEC9AB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DDAA-B2F6-4CDA-A7D6-D590974A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9E93-433F-4EE4-A61A-DE8F103A7744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33 Prebuď hriešnych, čo bez Krist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buď hriešnych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bez Krista márne hľadajú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na šírej ceste svet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pasenie strácaj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obuď unavených, slabých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ých, čo tiesni smrti ti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by sa im zaskvel Kristu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 noci im svitol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buď z ospalosti všetkých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torých mámi sveta kla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by z bahna túžob hriešnych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preli zrak na kríž ta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de aj za nich Kristus trpe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trašných múk, keď kalich pi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by nikto nezahynu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le s ním raz večne ž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buď spiacich, sebaistých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torým zdanie bráni zrie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len s Kristom prišla milos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bez neho spásy ni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olaj, že sa blíži ráno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oc sa skoro pomin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to dar viery vďačne prij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en naveky nezhynie.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2:09:18Z</dcterms:modified>
  <cp:revision>36</cp:revision>
  <dc:subject/>
  <dc:title>Je veľký náš Pán, on slávy je Kráľ Nech do všetkých strán  spev vrúcnych znie chvál.</dc:title>
</cp:coreProperties>
</file>